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5.wmf" ContentType="image/x-wmf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16.wmf" ContentType="image/x-wmf"/>
  <Override PartName="/ppt/media/image8.png" ContentType="image/pn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1FB9-8958-4E4C-8121-6BF2E4CC51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40FB-51D3-4B78-9DE0-766AB7BAB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BB6A-E865-4E93-A5FC-8B5FDB18F2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33B1-5909-4223-BBA7-BD47E40853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F1A9-4034-46AC-9507-9DC75E6BC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04A4-7EA8-40EE-A657-68C800EFE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606C1-5799-4398-8CAE-BAAA6DE9C2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F5F7-CB24-4BDC-A95C-26B93B0D3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B890-9FA8-463D-B09F-C1CD9F9105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30506-FC36-4AA5-ADE3-177878C64D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4C11-E9A5-46B6-8D88-64D6C368C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A106-5593-43EC-9AD7-FD139DE99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8AF3-3EFF-4113-BA03-39EAEC9F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7505C-C5DA-4E1B-ACDD-29CD69CC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EBC67-9E4A-4D80-85C5-6287B2D1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238BE-FAD4-44BB-90E2-44E29A4F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6C69E-9290-4269-B525-A9228D15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CD45A-F189-4C69-84CC-E0256335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091288-8D31-4EA1-84E3-D031333D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24023B-CB0E-4912-96F0-FF2C81F6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3CB5B-C7B9-480C-B39A-01EA5B2F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EEF43-C998-4F4A-9040-60E034697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AAB-97A8-4FE6-AC24-3FCDA1741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2E9-CE34-4BD1-A263-A36C3EB4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7217-67FE-4635-91E8-3E1F0BF0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C2302-54EB-4A60-86AD-D6B08A9E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3FA97-FF09-4541-91A4-475E470CC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98FA-EF60-4BB9-BDA7-89DB5E21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9746-F28B-4E88-A7FC-0E8DB78E9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3C99D-0832-4CA1-8BFA-CE739568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E855-58BA-4D52-829E-E4D7A1CF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1800-2803-41B4-8727-408AEAE3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20941-87DD-4B2C-A6F4-12DA0211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FF3F-F935-4175-A800-BC792C40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4AD4F-9AA7-4523-8515-9AB5264E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9511-50C2-40FC-9968-BF08F1E7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2353-E92B-49CC-9641-D030ABC2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40F1A-9649-4EDD-A22D-18BC57F4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0B809-BA20-4517-9BE0-831E310C8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A497B-E446-4D19-A5A7-A34DCDAE0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A53F9-E01E-4135-A230-90ACDB89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6FE2-4572-43F4-86C6-F6CEA64D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DBF-8CA7-4AFB-B1FA-1A77EEA2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B514D-526D-4CA6-A355-A4038392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50B4D-3A51-4948-9412-799E9FD2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3E7DF-D0EF-4E20-B364-33811262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EDDC-D58C-40F3-B998-0444A6BF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96CEC-3631-4199-B3C5-564B38C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1722A-8C85-4D71-923D-12D6EB62A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9E001-5811-4AE0-A028-407769F35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DE0AC-DE4C-4039-9930-EEE1735D9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3D10C-E81D-4E04-8572-7C6D4473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6D68-D0EF-45E8-A7F5-31AA3E23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AFEF-C112-4845-8C19-4D8B9C99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19C79-24EA-437E-A22A-F1B1DF88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9805-A225-4A63-A5F6-FCDAB334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567D1-529F-485A-B4C5-EB97384C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471E1-122B-4D0B-A470-EA0A3AE0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5E23E-A63D-41E4-B0E5-FE8C6702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F47B9-E92F-47CC-B913-55933EFF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C291F-50B8-4967-BA9B-26B7AB7A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6139-EDD2-409A-87DE-EEC4726F7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B8364-263B-4901-B0F7-AB6270752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0EEE5-39CC-490C-AB55-2EE644021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329-810B-4B44-AC5E-AF64BFF5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ECA93-382E-413D-9A6A-E427A7D0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6DF36-71AF-44D3-A852-20C9B50C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5A48F-1493-40EE-B04F-13CB1B48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BA536-960D-415E-9C85-96794E73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6E6D9-97A4-4D0A-9BF2-AFCEE218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9949-D4DE-4458-AC51-740063C3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6B340-C469-4E69-A628-A4D5F6B8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0F670-9430-4D56-850C-D6AEB44B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79FF-8FCA-4724-91A4-8495E1C2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435F0-247E-450C-A393-A52411748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6BD-AEFC-44CA-93E0-398E15BC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8972D-3318-43D6-BCCC-A8CCEC460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9D73B-B732-4799-BB43-38D7DF39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B2A94-0773-465F-BBEC-7730D6A3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E36B4-46F1-46FB-AD22-9C0E032F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657B9-0DF5-41CF-B82A-D06F21B5D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8CB90-4B88-4327-8801-518B6B2C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7C49B-C73D-4E04-9CBC-C1BD65ED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41DCF-B8EF-420A-AB52-965717E4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DCDEC-4321-409F-B9D7-4389A5BD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4AD0B-32AF-40ED-8A2A-33A0D03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02F0-D9D4-48E0-8D31-264ADDE8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0D789-04BF-4A46-A271-1117C5E1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58C91-FA6C-40F3-B908-18D8462D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8B27E-37B8-4137-9A65-1D53E16C2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C758F-7694-4464-95B1-1F85F816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BA855-DBC9-4B61-BAAA-07DBC259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78AA9-F238-4765-9A4B-1418B25F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F9459-0598-445A-A43F-33D68AC1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45662-DBD3-4E0F-9054-6E00E318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9A3273-8F9B-46C7-9C07-109BD610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C7EDD-8B35-466F-88BB-4BE5E2D6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5E1-1CC5-44E6-8E0C-7317A150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8943E-7E0F-44F8-825A-3CA75E96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FBC95-E2DA-4D83-8E20-B8EADC87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7E641-982B-4730-A551-2C95EE0C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CEA2F-1069-4088-9C24-D274FE44F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4838A-7FB7-491B-8558-49E727D0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31D58-7C02-4417-9CC4-A1630C66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7B547-A52F-4B93-A1F2-1578881C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E0D778-F04B-4D51-B6C2-41392B69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7F560-CD95-4EBD-A166-54E9E359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CF5DE-A17C-48E2-9D03-7433BBA6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BAED-96BA-440C-B5D9-E7F32300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25E39-ED73-4295-857D-3D3C5DE7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A2D79-DFB7-47CA-8393-DCEB2468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D7990-EF1E-49FF-A18F-FF8C0404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18436-C235-4AAA-8B54-5797794A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89B4F-D9B4-4EF8-B821-14FCC5BF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1F858-2325-49CB-B136-0A4527AE3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A7B20-C167-4288-8771-7CF96056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015A1E-EA1F-4B1A-946C-9AAF1272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BCCAB-14BA-4588-8688-85A62B98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9F1D7-4A5C-4623-A85F-2EC4296E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CD704-6C40-4544-A24E-338F2A5327D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AB458-A34E-4597-8148-DF5FC7466D6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52734-8B4B-458C-9965-CDE7F4552E5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72E-4B1B-4FE8-A46C-CB5B1814A1E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1ED5-A2B6-4821-8478-EB05A1BA902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0FB1-487F-473E-84EF-941B0348D3D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95B0-552D-4314-BF82-0A88BF3E03D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F1A2-5818-4FEF-BA68-8AC93A53C6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DE2B-67EB-4A7B-9BC7-DB551DF9231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182520" y="4761000"/>
            <a:ext cx="8663040" cy="13222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3329"/>
                </a:solidFill>
                <a:latin typeface="Franklin Gothic Book"/>
              </a:rPr>
              <a:t>Learn about them !!!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advTm="9000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re enemies are people killing them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5" name="Picture 2" descr="C:\Documents and Settings\bcsuser\Local Settings\Temporary Internet Files\Content.IE5\07G2KVT1\MCj03362510000[1].wmf"/>
          <p:cNvPicPr/>
          <p:nvPr/>
        </p:nvPicPr>
        <p:blipFill>
          <a:blip r:embed="rId2"/>
          <a:stretch/>
        </p:blipFill>
        <p:spPr>
          <a:xfrm>
            <a:off x="3048120" y="2971800"/>
            <a:ext cx="2743200" cy="359568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ndangered –an animal   that is being killed so soon there will  be gone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0" name="Picture 4" descr="C:\Documents and Settings\bcsuser\Local Settings\Temporary Internet Files\Content.IE5\HCBFPMWS\MPj04286530000[1].jpg"/>
          <p:cNvPicPr/>
          <p:nvPr/>
        </p:nvPicPr>
        <p:blipFill>
          <a:blip r:embed="rId2"/>
          <a:stretch/>
        </p:blipFill>
        <p:spPr>
          <a:xfrm>
            <a:off x="1233360" y="3276720"/>
            <a:ext cx="6677280" cy="358128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re height is 26-32 inches .   There length is 4-5-6-to 5 feet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3" name="MSj00750620000[1].wav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8" descr="C:\Documents and Settings\bcsuser\Local Settings\Temporary Internet Files\Content.IE5\QSB2UD4J\MPj04387690000[1].jpg"/>
          <p:cNvPicPr/>
          <p:nvPr/>
        </p:nvPicPr>
        <p:blipFill>
          <a:blip r:embed="rId3"/>
          <a:stretch/>
        </p:blipFill>
        <p:spPr>
          <a:xfrm>
            <a:off x="3505320" y="2971800"/>
            <a:ext cx="4876560" cy="388620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34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re life span is 7-8 years and some of them live to be 10 year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7" name="Picture 3" descr="C:\Users\bcsuser\AppData\Local\Microsoft\Windows\Temporary Internet Files\Content.IE5\AP4TF8BH\MPj04402650000[1].jpg"/>
          <p:cNvPicPr/>
          <p:nvPr/>
        </p:nvPicPr>
        <p:blipFill>
          <a:blip r:embed="rId2"/>
          <a:stretch/>
        </p:blipFill>
        <p:spPr>
          <a:xfrm>
            <a:off x="1219320" y="3429000"/>
            <a:ext cx="6400800" cy="281952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It will eat elk , deer, moose, and caribou and they will eat rabbits and they will eat beaver and other small anamil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0" name="Picture 2" descr="C:\Documents and Settings\bcsuser\Local Settings\Temporary Internet Files\Content.IE5\TCS1FSCI\MPj02625680000[1].jpg"/>
          <p:cNvPicPr/>
          <p:nvPr/>
        </p:nvPicPr>
        <p:blipFill>
          <a:blip r:embed="rId2"/>
          <a:stretch/>
        </p:blipFill>
        <p:spPr>
          <a:xfrm>
            <a:off x="2819520" y="3276720"/>
            <a:ext cx="3962160" cy="3124080"/>
          </a:xfrm>
          <a:prstGeom prst="rect">
            <a:avLst/>
          </a:prstGeom>
          <a:ln w="0">
            <a:noFill/>
          </a:ln>
        </p:spPr>
      </p:pic>
    </p:spTree>
  </p:cSld>
  <p:transition advTm="8000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Esdimated 7,000 to 11,200 in allaska more than 5,000 in the lower 48 states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3" name="Picture 3" descr="C:\Documents and Settings\bcsuser\Local Settings\Temporary Internet Files\Content.IE5\QSB2UD4J\MPj02626240000[1].jpg"/>
          <p:cNvPicPr/>
          <p:nvPr/>
        </p:nvPicPr>
        <p:blipFill>
          <a:blip r:embed="rId2"/>
          <a:stretch/>
        </p:blipFill>
        <p:spPr>
          <a:xfrm>
            <a:off x="3352680" y="2819520"/>
            <a:ext cx="2971800" cy="365760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live in  Alaska ,  Idaho , Michigan , Montana  ,   Wensconsin and Wyoming , New Mexico ,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6" name="Picture 2" descr="C:\Documents and Settings\bcsuser\Local Settings\Temporary Internet Files\Content.IE5\2HDSTUJ5\MCj04367360000[1].wmf"/>
          <p:cNvPicPr/>
          <p:nvPr/>
        </p:nvPicPr>
        <p:blipFill>
          <a:blip r:embed="rId2"/>
          <a:stretch/>
        </p:blipFill>
        <p:spPr>
          <a:xfrm>
            <a:off x="3352680" y="3124080"/>
            <a:ext cx="2289240" cy="124776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y hunt in packs  for food with there mom and dads and brothers and sisters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9" name="Picture 3" descr="C:\Documents and Settings\bcsuser\Local Settings\Temporary Internet Files\Content.IE5\WZG18BHJ\MPj02628410000[1].jpg"/>
          <p:cNvPicPr/>
          <p:nvPr/>
        </p:nvPicPr>
        <p:blipFill>
          <a:blip r:embed="rId2"/>
          <a:stretch/>
        </p:blipFill>
        <p:spPr>
          <a:xfrm>
            <a:off x="2590920" y="2666880"/>
            <a:ext cx="3651120" cy="3657600"/>
          </a:xfrm>
          <a:prstGeom prst="rect">
            <a:avLst/>
          </a:prstGeom>
          <a:ln w="0">
            <a:noFill/>
          </a:ln>
        </p:spPr>
      </p:pic>
    </p:spTree>
  </p:cSld>
  <p:transition advTm="9000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e most common cause of death wolfs in conflict with people 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32" name="Picture 2" descr="C:\Documents and Settings\bcsuser\Local Settings\Temporary Internet Files\Content.IE5\QRH3D8K0\MCj03323060000[1].wmf"/>
          <p:cNvPicPr/>
          <p:nvPr/>
        </p:nvPicPr>
        <p:blipFill>
          <a:blip r:embed="rId2"/>
          <a:stretch/>
        </p:blipFill>
        <p:spPr>
          <a:xfrm>
            <a:off x="1752480" y="2819520"/>
            <a:ext cx="6110280" cy="373356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3:23:46Z</dcterms:created>
  <dc:creator>bcsuser</dc:creator>
  <dc:description/>
  <dc:language>en-US</dc:language>
  <cp:lastModifiedBy>Guest</cp:lastModifiedBy>
  <dcterms:modified xsi:type="dcterms:W3CDTF">2009-11-28T09:45:16Z</dcterms:modified>
  <cp:revision>14</cp:revision>
  <dc:subject/>
  <dc:title>Gray wolf</dc:title>
</cp:coreProperties>
</file>